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76291-AB37-4C9A-823A-1ED31A33C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BAE51-0A14-49ED-A4AD-73ABFFF43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238A3-601B-4C2E-AF1F-26DDACE48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A1C52-E81D-464D-926B-BB2AE3900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18A83-07DB-42A8-AE8E-B7227081D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56294-190A-42C4-9B75-5CF908AE6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273CC-5302-4698-B97D-26947723F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6383B-864D-4905-A10B-ECC3FE9D4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77DE8-6181-4BCE-8DF7-74522FE23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7A9D6-96FA-4A09-85BA-E61C36B2F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7B9F6-F06C-4725-83C8-65D1DDA78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EA34D-E816-46F3-937F-1C0AFE534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A4EA1-1A59-45C2-B232-7F1AE2AC6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D0DB1-BA36-4868-8E63-FE18AC187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1CAFD-F2C0-498A-930F-49A7FE30E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9FB27-4ECF-4A25-A8DA-A8211DB13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9E478-FF32-4BBD-AEFF-8A4D141B5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26DF4-9296-4E64-A22B-4245081D5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322EC-B0F3-4C18-A123-85E906995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10FD5-D47D-4264-9F93-8CFE85115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4756E-5B57-47CD-B96A-246349A4E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C43DF-E4F8-4CF5-AC33-CEF61E666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C1BBF-F59C-4B89-A40A-D04C3ABDE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3E34C-5855-4C7E-9DE9-CDC891D64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DFCD-9FCC-458D-957A-5B92CFC1FB11}"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8C59-0C36-425C-8384-D54C1A05D474}"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Science Curriculum Maps</a:t>
            </a:r>
            <a:endParaRPr b="0" lang="en-US" sz="4000" spc="-1" strike="noStrike">
              <a:solidFill>
                <a:srgbClr val="ffffff"/>
              </a:solidFill>
              <a:latin typeface="Book Antiqu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Madison School District</a:t>
            </a:r>
            <a:endParaRPr b="0" lang="en-US" sz="4000" spc="-1" strike="noStrike">
              <a:solidFill>
                <a:srgbClr val="ffffff"/>
              </a:solidFill>
              <a:latin typeface="Book Antiqua"/>
            </a:endParaRPr>
          </a:p>
        </p:txBody>
      </p:sp>
      <p:pic>
        <p:nvPicPr>
          <p:cNvPr id="84" name="Picture 7" descr="C:\Documents and Settings\kthomas\Local Settings\Temporary Internet Files\Content.IE5\K2N81U59\MPj04395160000[1].jpg"/>
          <p:cNvPicPr/>
          <p:nvPr/>
        </p:nvPicPr>
        <p:blipFill>
          <a:blip r:embed="rId2"/>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599840"/>
            <a:ext cx="8229600" cy="4708440"/>
          </a:xfrm>
          <a:prstGeom prst="rect">
            <a:avLst/>
          </a:prstGeom>
          <a:noFill/>
          <a:ln w="0">
            <a:noFill/>
          </a:ln>
        </p:spPr>
        <p:txBody>
          <a:bodyPr lIns="90000" rIns="90000" tIns="46800" bIns="46800" anchor="t">
            <a:normAutofit fontScale="97000"/>
          </a:bodyPr>
          <a:p>
            <a:pPr marL="531000" indent="-3985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This 2008-2009 school year, Kim put the videos on sharepoint.  This has eliminated the need to make more copies for “lost” cds.  Teachers can access the videos to cover their science p.o.’s at any time.</a:t>
            </a:r>
            <a:endParaRPr b="0" lang="en-US" sz="4000" spc="-1" strike="noStrike">
              <a:solidFill>
                <a:srgbClr val="ffffff"/>
              </a:solidFill>
              <a:latin typeface="Book Antiqua"/>
            </a:endParaRPr>
          </a:p>
        </p:txBody>
      </p:sp>
      <p:pic>
        <p:nvPicPr>
          <p:cNvPr id="102"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1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In 2001 The Madison School District adopted FOSS as its new science program.  The FOSS modules were aligned with the grade level standards.  </a:t>
            </a:r>
            <a:endParaRPr b="0" lang="en-US" sz="4400" spc="-1" strike="noStrike">
              <a:solidFill>
                <a:srgbClr val="ffffff"/>
              </a:solidFill>
              <a:latin typeface="Book Antiqua"/>
            </a:endParaRPr>
          </a:p>
        </p:txBody>
      </p:sp>
      <p:pic>
        <p:nvPicPr>
          <p:cNvPr id="86"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In 2004 the Arizona Department of Education revised the state science standards, making them grade specific.</a:t>
            </a:r>
            <a:endParaRPr b="0" lang="en-US" sz="4000" spc="-1" strike="noStrike">
              <a:solidFill>
                <a:srgbClr val="ffffff"/>
              </a:solidFill>
              <a:latin typeface="Book Antiqua"/>
            </a:endParaRPr>
          </a:p>
        </p:txBody>
      </p:sp>
      <p:pic>
        <p:nvPicPr>
          <p:cNvPr id="88"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Madison realigned the modules to meet the state standards for each grade level.  But, when we matched the performing objectives with FOSS, we realized that there were gaps.  </a:t>
            </a:r>
            <a:endParaRPr b="0" lang="en-US" sz="4000" spc="-1" strike="noStrike">
              <a:solidFill>
                <a:srgbClr val="ffffff"/>
              </a:solidFill>
              <a:latin typeface="Book Antiqua"/>
            </a:endParaRPr>
          </a:p>
        </p:txBody>
      </p:sp>
      <p:pic>
        <p:nvPicPr>
          <p:cNvPr id="90"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FOSS did not cover all the state standards, as no national program would, since the national standards are not grade specific.  </a:t>
            </a:r>
            <a:endParaRPr b="0" lang="en-US" sz="4000" spc="-1" strike="noStrike">
              <a:solidFill>
                <a:srgbClr val="ffffff"/>
              </a:solidFill>
              <a:latin typeface="Book Antiqua"/>
            </a:endParaRPr>
          </a:p>
        </p:txBody>
      </p:sp>
      <p:pic>
        <p:nvPicPr>
          <p:cNvPr id="92"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Madison assembled a group of teachers to “fill in the gaps” in the science curriculum maps.  There was no money available for purchasing materials.  The teachers who worked that summer immediately used Discovery videos to “fill in the gaps”, since they were familiar with using ASSET resources.</a:t>
            </a:r>
            <a:endParaRPr b="0" lang="en-US" sz="3600" spc="-1" strike="noStrike">
              <a:solidFill>
                <a:srgbClr val="ffffff"/>
              </a:solidFill>
              <a:latin typeface="Book Antiqua"/>
            </a:endParaRPr>
          </a:p>
        </p:txBody>
      </p:sp>
      <p:pic>
        <p:nvPicPr>
          <p:cNvPr id="94"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The teachers found the videos by referencing the grade level, subject (science), concept and p.o. </a:t>
            </a:r>
            <a:endParaRPr b="0" lang="en-US" sz="4000" spc="-1" strike="noStrike">
              <a:solidFill>
                <a:srgbClr val="ffffff"/>
              </a:solidFill>
              <a:latin typeface="Book Antiqua"/>
            </a:endParaRPr>
          </a:p>
        </p:txBody>
      </p:sp>
      <p:pic>
        <p:nvPicPr>
          <p:cNvPr id="96"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599840"/>
            <a:ext cx="8229600" cy="4708440"/>
          </a:xfrm>
          <a:prstGeom prst="rect">
            <a:avLst/>
          </a:prstGeom>
          <a:noFill/>
          <a:ln w="0">
            <a:noFill/>
          </a:ln>
        </p:spPr>
        <p:txBody>
          <a:bodyPr lIns="90000" rIns="90000" tIns="46800" bIns="46800" anchor="t">
            <a:normAutofit fontScale="91000"/>
          </a:bodyPr>
          <a:p>
            <a:pPr marL="498240" indent="-37404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I gave a list of the videos to Kim Thomas, Madison’s instructional tech support.  In an effort to save the teachers time and the district bandwidth,  Kim downloaded the videos and made a cd for each teacher in that grade level.</a:t>
            </a:r>
            <a:endParaRPr b="0" lang="en-US" sz="4000" spc="-1" strike="noStrike">
              <a:solidFill>
                <a:srgbClr val="ffffff"/>
              </a:solidFill>
              <a:latin typeface="Book Antiqua"/>
            </a:endParaRPr>
          </a:p>
        </p:txBody>
      </p:sp>
      <p:pic>
        <p:nvPicPr>
          <p:cNvPr id="98"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The following year several cds were “lost” either by returning teachers or teachers who had left the district.  I ordered more copies from Kim and sent them out to the teachers.  </a:t>
            </a:r>
            <a:endParaRPr b="0" lang="en-US" sz="4000" spc="-1" strike="noStrike">
              <a:solidFill>
                <a:srgbClr val="ffffff"/>
              </a:solidFill>
              <a:latin typeface="Book Antiqua"/>
            </a:endParaRPr>
          </a:p>
        </p:txBody>
      </p:sp>
      <p:pic>
        <p:nvPicPr>
          <p:cNvPr id="100" name="Picture 7" descr="C:\Documents and Settings\kthomas\Local Settings\Temporary Internet Files\Content.IE5\K2N81U59\MPj04395160000[1].jpg"/>
          <p:cNvPicPr/>
          <p:nvPr/>
        </p:nvPicPr>
        <p:blipFill>
          <a:blip r:embed="rId1"/>
          <a:stretch/>
        </p:blipFill>
        <p:spPr>
          <a:xfrm>
            <a:off x="7010280" y="228600"/>
            <a:ext cx="1830600" cy="122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20:11:06Z</dcterms:created>
  <dc:creator> </dc:creator>
  <dc:description/>
  <dc:language>en-US</dc:language>
  <cp:lastModifiedBy>kthomas</cp:lastModifiedBy>
  <dcterms:modified xsi:type="dcterms:W3CDTF">2009-06-02T20:03:07Z</dcterms:modified>
  <cp:revision>4</cp:revision>
  <dc:subject/>
  <dc:title>Filling in the Gaps</dc:title>
</cp:coreProperties>
</file>